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682-3AD1-4CC4-8C6B-2C388DD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24D-774D-4071-B8F8-54476A9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F93-1110-476F-8066-664D25F0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39F-CB8D-4041-86CE-1895FDD4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AFA-038C-49F6-A81D-CC193D1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7D3-E721-462D-9FDF-F8FDEE15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CF0-365F-413F-AC4B-F4429A0B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64B-969B-485B-B16F-0D4323D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99B-14C4-44AE-8246-69961A3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099-98AE-4C90-BF8A-4855D56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433-00C9-4551-AE6A-0AEF082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EB7-B07B-45FC-B5F2-66D57A3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7E7-F32C-4B97-BF84-84C39516F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hyperlink" Target="file:///&#30446;&#24405;.ppt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文档和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981080"/>
            <a:ext cx="6629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通过视类与用户交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通过视类与用户交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2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文档类处理数据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档类中保存数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39720" y="609588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676520"/>
            <a:ext cx="594360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Line : public CObjec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Sta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(CPoint pt1, CPoint pt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irtual ~C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Draw(CDC *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2280"/>
            <a:ext cx="731520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C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CLine(CPoint pt1, CPoint pt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.x = pt1.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.y = pt1.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End.x = pt2.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End.y = pt2.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~C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Line::Draw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MoveTo(m_ptSta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LineTo(m_ptE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文档类中添加保存数据的变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676520"/>
            <a:ext cx="594360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m_strLast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List   m_str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trList   m_Line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视类成员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ButtonUp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Cha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360"/>
            <a:ext cx="8763120" cy="645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LButtonUp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pCursor( NULL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LineTo( m_ptOld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ROP2( R2_COPYPEN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LineTo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DocViewDoc *pDoc = GetDocument();       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得到文档类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Line *pLine = new CLine(m_ptStart,point);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创建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Line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LineList.AddTail( (void *) pLine);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Line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加入到链表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tCursor(m_hArrow)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设置鼠标形状为标准箭头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3760"/>
            <a:ext cx="8839440" cy="6789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Char(UINT nChar, UINT nRepCnt, UINT nFlag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DocViewDoc *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Char == VK_RETU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ist.AddTail(m_strDispla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astLine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strDisplay.Empt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Lin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 if(m_strDisplay.GetLength() &lt; 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strDisplay += nCha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astLine = m_strDispl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GetTextMetrics(&amp;tm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TextOut(0, m_nLine * nLineHeight, m_strDispla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Char(nChar, nRepCnt, nFlag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76520"/>
            <a:ext cx="769644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Doc::DrawLine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 *p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Line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; pos != NULL; m_LineList.GetNext(po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Line = (CLine *) m_LineList.Get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Line-&gt;Draw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档类中添加重画直线和重写文本的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23888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Doc::DrawText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GetTextMetrics(&amp;t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i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str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 ; pos != NULL; m_strList.GetNext(pos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m_strList.Get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 0, line*nLineHeight, str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 0, line*nLineHeight, m_strLastLin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678204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oc-&gt;DrawLine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oc-&gt;DrawText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视类成员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17480" y="640080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视类与用户交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程序中响应鼠标消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程序中响应键盘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9720" y="609588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单文档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ocView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视类添加数据成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20960"/>
            <a:ext cx="54864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 m_bMouseDown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识鼠标左键是否按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CURSOR  m_hCross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十字型鼠标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CURSOR  m_hArrow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准型鼠标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Old;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Start;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画线的起始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809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成员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373640"/>
            <a:ext cx="723888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View::CDocVie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Cross = AfxGetApp()-&gt;LoadStandardCursor(IDC_CRO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Arrow = AfxGetApp()-&gt;LoadStandardCursor(IDC_AR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66680"/>
            <a:ext cx="80010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 OnLButtonDown 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true;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鼠标左键按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 = point;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画线的起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Old = point;  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apture();        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鼠标消息发送到视窗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ClientRect(&amp;rect);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客户窗口的大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entToScreen(&amp;rect);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当前窗口坐标转换成屏幕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pCursor(&amp;rect);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鼠标限定在其参数指定的矩形区域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ursor(m_hCross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鼠标形状为十字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鼠标动作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762120"/>
            <a:ext cx="876312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DrawView::OnMouseMove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擦除从起点（鼠标按下点）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m_ptOld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次鼠标移动到的位置之间的临时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从起点到鼠标当前位置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poin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Old = point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鼠标当前位置在下一次鼠标移动事件看来就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旧位置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鼠标动作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52280"/>
            <a:ext cx="876312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DrawView::OnLButtonUp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pCursor( NUL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擦除从起点（鼠标按下点）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m_ptOld 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次鼠标移动到的位置之间的临时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COPYPEN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从起点到鼠标当前位置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point );                /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ursor(m_hArrow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鼠标形状为标准箭头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数据成员为视类添加数据成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295280"/>
            <a:ext cx="54864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nLine;      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记录已输入字符行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_strDisplay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保存当前字符串的变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成员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124080"/>
            <a:ext cx="72388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View::CDocVie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nLi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Cross = AfxGetApp()-&gt;LoadStandardCursor(IDC_CRO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Arrow = AfxGetApp()-&gt;LoadStandardCursor(IDC_AR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键盘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44400"/>
            <a:ext cx="838224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Char(UINT nChar, UINT nRepCnt, UINT nFlag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Char == VK_RETURN)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按下回车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Display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Lin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m_strDisplay.GetLength() &lt; 64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行字符数小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Display += nCh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GetTextMetrics(&amp;t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TextOut(0, m_nLine * nLineHeight, m_strDispla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Char(nChar, nRepCnt, nFlag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xGetApp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adStandardCursor(IDC_CROS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GetClientRect(&amp;rect);      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客户窗口的大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ClientToScreen(&amp;rect);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当前窗口坐标转换成屏幕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ClipCursor(&amp;rect);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鼠标限定在其参数指定的矩形区域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SetCursor(m_hCross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鼠标形状为十字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6:47Z</dcterms:modified>
  <cp:revision>103</cp:revision>
  <dc:subject/>
  <dc:title>第四章   菜单、快捷键和控制条 </dc:title>
</cp:coreProperties>
</file>